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drumroll.wav" ContentType="audio/x-wav"/>
  <Override PartName="/ppt/media/image3.jpeg" ContentType="image/jpeg"/>
  <Override PartName="/ppt/media/image19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wind.wav" ContentType="audio/x-wav"/>
  <Override PartName="/ppt/media/image16.jpeg" ContentType="image/jpeg"/>
  <Override PartName="/ppt/media/image15.jpeg" ContentType="image/jpeg"/>
  <Override PartName="/ppt/media/image2.jpeg" ContentType="image/jpeg"/>
  <Override PartName="/ppt/media/push.wav" ContentType="audio/x-wav"/>
  <Override PartName="/ppt/media/laser.wav" ContentType="audio/x-wav"/>
  <Override PartName="/ppt/media/image14.jpeg" ContentType="image/jpeg"/>
  <Override PartName="/ppt/media/coin.wav" ContentType="audio/x-wav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76129-B332-4FB0-B7A5-2507D59F6D46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0D959-F2DB-45D5-B5E4-0DCC5DBE6BA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CBB4-F3EA-4570-AAB7-4FF69F519A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E209-C7BB-4CDE-A801-57F29A1C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E6EF-E40F-405C-868F-54D8F65F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9BA7-95F7-4A9A-933B-AF3DBE3201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606D6-CFB3-4F27-9BFA-7876E42D2B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BE291-3A8D-4CC3-87EE-EF8018C6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0F639-B31A-4289-8B61-8B872DAE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F2FFA-C723-4AD4-A59C-6CBCB642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8E9DE-C1A2-4AB4-9441-ABE7E8BC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6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413F0-C2FE-4ABB-B349-0DFD62A4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307E3-0ED7-42AB-B1B2-6B0CE691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CA8F-DF6B-4815-9AD1-78A063EF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E84A3-A375-474D-82B7-033B39A9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F981F-CD86-4204-AEB4-780C2CF9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C75B0-625E-4D9E-9040-3490CBF5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2BBF6-0200-4510-ADBE-DFB5C1D5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D12CC-BBB0-4452-ABA9-5865EA92C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FF25-6DE6-4757-8ADB-BAD09DBA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1A79-1E77-4E08-AB90-7F5F0531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7025-1608-449C-9B8B-D41E5684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6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CDEC-0CF3-48F0-BED3-B05A2AC5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359A-D2F5-4262-9CD6-5A0816D6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A4A6-67D2-4A10-935D-CE111203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EF01-1501-4099-8B45-36F9AF63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BE991-F341-4B43-9911-132D9C74C941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>
                  <a:gd name="textAreaLeft" fmla="*/ 0 w 535320"/>
                  <a:gd name="textAreaRight" fmla="*/ 535680 w 5353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>
                  <a:gd name="textAreaLeft" fmla="*/ 0 w 1095480"/>
                  <a:gd name="textAreaRight" fmla="*/ 1095840 w 1095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>
                <a:gd name="textAreaLeft" fmla="*/ 0 w 1562400"/>
                <a:gd name="textAreaRight" fmla="*/ 1562760 w 156240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1540E-0CFF-41E5-87C9-8D7D071C837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5" Type="http://schemas.openxmlformats.org/officeDocument/2006/relationships/image" Target="../media/image3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6" Type="http://schemas.openxmlformats.org/officeDocument/2006/relationships/image" Target="../media/image11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us.org/files/images/russia-fla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360036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The Present Day Is Always Tougher In Mother Russi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105520"/>
            <a:ext cx="6400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6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57200" y="-304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867280" y="114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3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5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dur="indefinite" fill="hold">
                      <p:stCondLst>
                        <p:cond delay="indefinite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0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0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190760" cy="3200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lackadder ITC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lackadder ITC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362320" y="1447920"/>
            <a:ext cx="4190760" cy="3195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lus/>
    <p:sndAc>
      <p:stSnd>
        <p:snd r:embed="rId4" name="wind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dur="indefinite" fill="hold">
                      <p:stCondLst>
                        <p:cond delay="indefinite"/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6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dur="indefinite" fill="hold">
                      <p:stCondLst>
                        <p:cond delay="indefinite"/>
                      </p:stCondLst>
                      <p:childTnLst>
                        <p:par>
                          <p:cTn id="4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33520" y="12193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Only 15% of the urban population breathes clean, safe ai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Factories put most of the toxic substances in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Acid rain from Europe and Siberia has shortened the Siberian forests’ size by an estimated 730,000 hectares</a:t>
            </a: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-1143000" y="6095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 rot="19620000">
            <a:off x="1415520" y="274140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 rot="19500000">
            <a:off x="1406160" y="274140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 rot="19320000">
            <a:off x="3108240" y="27824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2" name="coin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dur="indefinite" fill="hold">
                      <p:stCondLst>
                        <p:cond delay="indefinite"/>
                      </p:stCondLst>
                      <p:childTnLst>
                        <p:par>
                          <p:cTn id="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dur="indefinite" fill="hold">
                      <p:stCondLst>
                        <p:cond delay="indefinite"/>
                      </p:stCondLst>
                      <p:childTnLst>
                        <p:par>
                          <p:cTn id="4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82296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Lowest recorded temperature is -93°C (THAT’S REALLY COLD!!!!)</a:t>
            </a:r>
            <a:r>
              <a:rPr b="0" lang="en-US" sz="2400" spc="-1" strike="noStrike">
                <a:solidFill>
                  <a:srgbClr val="cc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In the winter, some of the land is in total darkness for over six months of the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Capital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Largest City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Area: 17, 075, 400 Square Kilometers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Official Languages: Russian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Government: Federal Republic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esident –Dmitry Medvedev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ime Minister – Vladmir Putin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opulation: 142, 400, 000 (2006 est.</a:t>
            </a:r>
            <a:r>
              <a:rPr b="0" lang="en-US" sz="2400" spc="-1" strike="noStrike">
                <a:solidFill>
                  <a:srgbClr val="ccff66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push.wav"/>
      </p:stSnd>
    </p:sndAc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049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Mr. griffith and Mr. O'bri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mages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s you can see, IT’s ALWAYS tougher in Russ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18288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dur="indefinite" fill="hold">
                      <p:stCondLst>
                        <p:cond delay="indefinite"/>
                      </p:stCondLst>
                      <p:childTnLst>
                        <p:par>
                          <p:cTn id="5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applaus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21T02:33:34Z</dcterms:modified>
  <cp:revision>29</cp:revision>
  <dc:subject/>
  <dc:title>Present Day Russia</dc:title>
</cp:coreProperties>
</file>